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69720" y="5766840"/>
            <a:ext cx="10464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69720" y="576684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31920" y="576684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69720" y="5766840"/>
            <a:ext cx="3369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808160" y="5766840"/>
            <a:ext cx="3369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346600" y="5766840"/>
            <a:ext cx="3369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76684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76684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766840"/>
            <a:ext cx="10464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766840"/>
            <a:ext cx="10464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76684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76684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766840"/>
            <a:ext cx="3369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766840"/>
            <a:ext cx="3369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766840"/>
            <a:ext cx="3369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6684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6684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66840"/>
            <a:ext cx="10464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66840"/>
            <a:ext cx="10464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6684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6684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66840"/>
            <a:ext cx="3369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66840"/>
            <a:ext cx="3369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66840"/>
            <a:ext cx="3369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69720" y="576684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31920" y="576684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9720" y="5766840"/>
            <a:ext cx="10464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36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dust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69720" y="261612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dust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6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marL="85680" indent="0">
              <a:spcBef>
                <a:spcPts val="36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1" marL="85680" indent="-85680">
              <a:spcBef>
                <a:spcPts val="3600"/>
              </a:spcBef>
              <a:buClr>
                <a:srgbClr val="ffffff"/>
              </a:buClr>
              <a:buFont typeface="Chalkdust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2" marL="85680" indent="-85680">
              <a:spcBef>
                <a:spcPts val="3600"/>
              </a:spcBef>
              <a:buClr>
                <a:srgbClr val="ffffff"/>
              </a:buClr>
              <a:buFont typeface="Chalkdus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3" marL="85680" indent="-85680">
              <a:spcBef>
                <a:spcPts val="3600"/>
              </a:spcBef>
              <a:buClr>
                <a:srgbClr val="ffffff"/>
              </a:buClr>
              <a:buFont typeface="Chalkdust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4" marL="85680" indent="-85680">
              <a:spcBef>
                <a:spcPts val="3600"/>
              </a:spcBef>
              <a:buClr>
                <a:srgbClr val="ffffff"/>
              </a:buClr>
              <a:buFont typeface="Chalkdust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5" marL="85680" indent="-85680">
              <a:spcBef>
                <a:spcPts val="3600"/>
              </a:spcBef>
              <a:buClr>
                <a:srgbClr val="ffffff"/>
              </a:buClr>
              <a:buFont typeface="Chalkdust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6" marL="85680" indent="-85680">
              <a:spcBef>
                <a:spcPts val="3600"/>
              </a:spcBef>
              <a:buClr>
                <a:srgbClr val="ffffff"/>
              </a:buClr>
              <a:buFont typeface="Chalkdust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dust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7000"/>
          </a:bodyPr>
          <a:p>
            <a:pPr marL="298440" indent="0">
              <a:spcBef>
                <a:spcPts val="36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1" marL="298440" indent="-298440">
              <a:spcBef>
                <a:spcPts val="3600"/>
              </a:spcBef>
              <a:buClr>
                <a:srgbClr val="ffffff"/>
              </a:buClr>
              <a:buFont typeface="Chalkdust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2" marL="298440" indent="-298440">
              <a:spcBef>
                <a:spcPts val="3600"/>
              </a:spcBef>
              <a:buClr>
                <a:srgbClr val="ffffff"/>
              </a:buClr>
              <a:buFont typeface="Chalkdus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3" marL="298440" indent="-298440">
              <a:spcBef>
                <a:spcPts val="3600"/>
              </a:spcBef>
              <a:buClr>
                <a:srgbClr val="ffffff"/>
              </a:buClr>
              <a:buFont typeface="Chalkdust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4" marL="298440" indent="-298440">
              <a:spcBef>
                <a:spcPts val="3600"/>
              </a:spcBef>
              <a:buClr>
                <a:srgbClr val="ffffff"/>
              </a:buClr>
              <a:buFont typeface="Chalkdust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5" marL="298440" indent="-298440">
              <a:spcBef>
                <a:spcPts val="3600"/>
              </a:spcBef>
              <a:buClr>
                <a:srgbClr val="ffffff"/>
              </a:buClr>
              <a:buFont typeface="Chalkdust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lvl="6" marL="298440" indent="-298440">
              <a:spcBef>
                <a:spcPts val="3600"/>
              </a:spcBef>
              <a:buClr>
                <a:srgbClr val="ffffff"/>
              </a:buClr>
              <a:buFont typeface="Chalkdust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70080" y="583920"/>
            <a:ext cx="1046304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500" spc="-1" strike="noStrike">
                <a:solidFill>
                  <a:srgbClr val="ffffff"/>
                </a:solidFill>
                <a:latin typeface="Chalkduster"/>
              </a:rPr>
              <a:t>Five Minute Activities</a:t>
            </a:r>
            <a:endParaRPr b="0" lang="en-US" sz="95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6375240"/>
            <a:ext cx="10463040" cy="17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halkduster"/>
              </a:rPr>
              <a:t>Presented by Laura Lowe</a:t>
            </a:r>
            <a:endParaRPr b="0" lang="en-US" sz="2900" spc="-1" strike="noStrike">
              <a:solidFill>
                <a:srgbClr val="ffffff"/>
              </a:solidFill>
              <a:latin typeface="Chalkduster"/>
            </a:endParaRPr>
          </a:p>
          <a:p>
            <a:pPr indent="0" algn="ctr"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halkduster"/>
              </a:rPr>
              <a:t>Librarian at BT Washington STEM Academy</a:t>
            </a:r>
            <a:endParaRPr b="0" lang="en-US" sz="2900" spc="-1" strike="noStrike">
              <a:solidFill>
                <a:srgbClr val="ffffff"/>
              </a:solidFill>
              <a:latin typeface="Chalkduster"/>
            </a:endParaRPr>
          </a:p>
          <a:p>
            <a:pPr indent="0" algn="ctr"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halkduster"/>
              </a:rPr>
              <a:t>Elementary School in Champaign, IL</a:t>
            </a:r>
            <a:endParaRPr b="0" lang="en-US" sz="29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70080" y="-508320"/>
            <a:ext cx="1046304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duster"/>
              </a:rPr>
              <a:t>Focusing Activities</a:t>
            </a: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3440" y="2415960"/>
            <a:ext cx="8088480" cy="56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spcBef>
                <a:spcPts val="3600"/>
              </a:spcBef>
              <a:buSzPct val="100000"/>
              <a:buBlip>
                <a:blip r:embed="rId1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duster"/>
              </a:rPr>
              <a:t>Do first thing, so students are thinking about the answers as they sit. 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571680" indent="-571680"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duster"/>
              </a:rPr>
              <a:t>Library joke</a:t>
            </a:r>
            <a:endParaRPr b="0" lang="en-US" sz="4000" spc="-1" strike="noStrike">
              <a:solidFill>
                <a:srgbClr val="ffffff"/>
              </a:solidFill>
              <a:latin typeface="Chalkduster"/>
            </a:endParaRPr>
          </a:p>
          <a:p>
            <a:pPr marL="571680" indent="-571680"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duster"/>
              </a:rPr>
              <a:t>Boggle</a:t>
            </a:r>
            <a:endParaRPr b="0" lang="en-US" sz="4000" spc="-1" strike="noStrike">
              <a:solidFill>
                <a:srgbClr val="ffffff"/>
              </a:solidFill>
              <a:latin typeface="Chalkduster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267760" y="3371760"/>
          <a:ext cx="3962520" cy="4619880"/>
        </p:xfrm>
        <a:graphic>
          <a:graphicData uri="http://schemas.openxmlformats.org/drawingml/2006/table">
            <a:tbl>
              <a:tblPr/>
              <a:tblGrid>
                <a:gridCol w="771480"/>
                <a:gridCol w="790560"/>
                <a:gridCol w="800280"/>
                <a:gridCol w="809280"/>
                <a:gridCol w="790920"/>
              </a:tblGrid>
              <a:tr h="924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50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51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50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51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51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50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51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50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51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1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4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50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51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50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51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51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51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50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51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51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4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50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51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50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1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5100" spc="-1" strike="noStrike">
                        <a:solidFill>
                          <a:srgbClr val="ffffff"/>
                        </a:solidFill>
                        <a:latin typeface="Chalkduster"/>
                      </a:endParaRPr>
                    </a:p>
                  </a:txBody>
                  <a:tcPr anchor="ctr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70080" y="203040"/>
            <a:ext cx="104630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halkduster"/>
              </a:rPr>
              <a:t>Activities on Websites</a:t>
            </a: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1046304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06440" indent="-406440">
              <a:spcBef>
                <a:spcPts val="4201"/>
              </a:spcBef>
              <a:buClr>
                <a:srgbClr val="ebebeb"/>
              </a:buClr>
              <a:buSzPct val="75000"/>
              <a:buFont typeface="Chalkdust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Chalkduster"/>
              </a:rPr>
              <a:t>Highlights Hidden Pictures Puzzles</a:t>
            </a:r>
            <a:br>
              <a:rPr sz="3400"/>
            </a:br>
            <a:r>
              <a:rPr b="0" lang="en-US" sz="2700" spc="-1" strike="noStrike">
                <a:solidFill>
                  <a:srgbClr val="ebebeb"/>
                </a:solidFill>
                <a:latin typeface="Chalkduster"/>
              </a:rPr>
              <a:t>http://www.highlightskids.com/hidden-pictures</a:t>
            </a:r>
            <a:endParaRPr b="0" lang="en-US" sz="2700" spc="-1" strike="noStrike">
              <a:solidFill>
                <a:srgbClr val="ffffff"/>
              </a:solidFill>
              <a:latin typeface="Chalkduster"/>
            </a:endParaRPr>
          </a:p>
          <a:p>
            <a:pPr marL="406440" indent="-406440">
              <a:spcBef>
                <a:spcPts val="4201"/>
              </a:spcBef>
              <a:buClr>
                <a:srgbClr val="ebebeb"/>
              </a:buClr>
              <a:buSzPct val="75000"/>
              <a:buFont typeface="Chalkdust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Chalkduster"/>
              </a:rPr>
              <a:t>PBS</a:t>
            </a:r>
            <a:r>
              <a:rPr b="0" lang="ja-JP" sz="3400" spc="-1" strike="noStrike">
                <a:solidFill>
                  <a:srgbClr val="ebebeb"/>
                </a:solidFill>
                <a:latin typeface="Chalkduster"/>
              </a:rPr>
              <a:t>’</a:t>
            </a:r>
            <a:r>
              <a:rPr b="0" lang="en-US" sz="3400" spc="-1" strike="noStrike">
                <a:solidFill>
                  <a:srgbClr val="ebebeb"/>
                </a:solidFill>
                <a:latin typeface="Chalkduster"/>
              </a:rPr>
              <a:t> Mixies Boogie Buffet</a:t>
            </a:r>
            <a:br>
              <a:rPr sz="3400"/>
            </a:br>
            <a:r>
              <a:rPr b="0" lang="en-US" sz="2600" spc="-1" strike="noStrike">
                <a:solidFill>
                  <a:srgbClr val="ebebeb"/>
                </a:solidFill>
                <a:latin typeface="Chalkduster"/>
              </a:rPr>
              <a:t>http://pbskids.org/lunchlab/#/games/boogie-buffet</a:t>
            </a:r>
            <a:endParaRPr b="0" lang="en-US" sz="2600" spc="-1" strike="noStrike">
              <a:solidFill>
                <a:srgbClr val="ffffff"/>
              </a:solidFill>
              <a:latin typeface="Chalkduster"/>
            </a:endParaRPr>
          </a:p>
          <a:p>
            <a:pPr marL="406440" indent="-406440">
              <a:spcBef>
                <a:spcPts val="4201"/>
              </a:spcBef>
              <a:buClr>
                <a:srgbClr val="ebebeb"/>
              </a:buClr>
              <a:buSzPct val="75000"/>
              <a:buFont typeface="Chalkdust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Chalkduster"/>
              </a:rPr>
              <a:t>Just Dance Kids</a:t>
            </a:r>
            <a:br>
              <a:rPr sz="3400"/>
            </a:br>
            <a:r>
              <a:rPr b="0" lang="en-US" sz="2700" spc="-1" strike="noStrike">
                <a:solidFill>
                  <a:srgbClr val="ebebeb"/>
                </a:solidFill>
                <a:latin typeface="Chalkduster"/>
              </a:rPr>
              <a:t>http://edu.symbaloo.com/mix/justdancekids1?searched=true</a:t>
            </a:r>
            <a:endParaRPr b="0" lang="en-US" sz="27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203040"/>
            <a:ext cx="104630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halkduster"/>
              </a:rPr>
              <a:t>Other Movement Activities</a:t>
            </a: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1800" y="2849040"/>
            <a:ext cx="1046304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06440" indent="-406440">
              <a:spcBef>
                <a:spcPts val="4201"/>
              </a:spcBef>
              <a:buClr>
                <a:srgbClr val="ebebeb"/>
              </a:buClr>
              <a:buSzPct val="75000"/>
              <a:buFont typeface="Chalkdust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Chalkduster"/>
              </a:rPr>
              <a:t>Stand up/ Sit down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  <a:p>
            <a:pPr marL="406440" indent="-406440">
              <a:spcBef>
                <a:spcPts val="4201"/>
              </a:spcBef>
              <a:buClr>
                <a:srgbClr val="ebebeb"/>
              </a:buClr>
              <a:buSzPct val="75000"/>
              <a:buFont typeface="Chalkdust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Chalkduster"/>
              </a:rPr>
              <a:t>4 Corners</a:t>
            </a:r>
            <a:endParaRPr b="0" lang="en-US" sz="36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70080" y="203040"/>
            <a:ext cx="104630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Chalkduster"/>
              </a:rPr>
              <a:t>Other Activities For the Lesson Area</a:t>
            </a:r>
            <a:endParaRPr b="0" lang="en-US" sz="6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1046304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06440" indent="-406440">
              <a:spcBef>
                <a:spcPts val="4201"/>
              </a:spcBef>
              <a:buClr>
                <a:srgbClr val="ebebeb"/>
              </a:buClr>
              <a:buSzPct val="75000"/>
              <a:buFont typeface="Chalkdust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Chalkduster"/>
              </a:rPr>
              <a:t>Hangman</a:t>
            </a:r>
            <a:endParaRPr b="0" lang="en-US" sz="3400" spc="-1" strike="noStrike">
              <a:solidFill>
                <a:srgbClr val="ffffff"/>
              </a:solidFill>
              <a:latin typeface="Chalkduster"/>
            </a:endParaRPr>
          </a:p>
          <a:p>
            <a:pPr marL="406440" indent="-406440">
              <a:spcBef>
                <a:spcPts val="4201"/>
              </a:spcBef>
              <a:buClr>
                <a:srgbClr val="ebebeb"/>
              </a:buClr>
              <a:buSzPct val="75000"/>
              <a:buFont typeface="Chalkdust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Chalkduster"/>
              </a:rPr>
              <a:t>Charades</a:t>
            </a:r>
            <a:endParaRPr b="0" lang="en-US" sz="3400" spc="-1" strike="noStrike">
              <a:solidFill>
                <a:srgbClr val="ffffff"/>
              </a:solidFill>
              <a:latin typeface="Chalkduster"/>
            </a:endParaRPr>
          </a:p>
          <a:p>
            <a:pPr marL="406440" indent="-406440">
              <a:spcBef>
                <a:spcPts val="4201"/>
              </a:spcBef>
              <a:buClr>
                <a:srgbClr val="ebebeb"/>
              </a:buClr>
              <a:buSzPct val="75000"/>
              <a:buFont typeface="Chalkdust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Chalkduster"/>
              </a:rPr>
              <a:t>Sparkle</a:t>
            </a:r>
            <a:endParaRPr b="0" lang="en-US" sz="34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70080" y="203040"/>
            <a:ext cx="104630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halkduster"/>
              </a:rPr>
              <a:t>Post-checkout Activities</a:t>
            </a: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1046304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06440" indent="-406440">
              <a:spcBef>
                <a:spcPts val="4201"/>
              </a:spcBef>
              <a:buClr>
                <a:srgbClr val="ebebeb"/>
              </a:buClr>
              <a:buSzPct val="75000"/>
              <a:buFont typeface="Chalkdust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Chalkduster"/>
              </a:rPr>
              <a:t>Spotlight Books</a:t>
            </a:r>
            <a:br>
              <a:rPr sz="3400"/>
            </a:br>
            <a:r>
              <a:rPr b="0" lang="en-US" sz="3400" spc="-1" strike="noStrike">
                <a:solidFill>
                  <a:srgbClr val="ebebeb"/>
                </a:solidFill>
                <a:latin typeface="Chalkduster"/>
              </a:rPr>
              <a:t>- Describe a book </a:t>
            </a:r>
            <a:br>
              <a:rPr sz="3400"/>
            </a:br>
            <a:r>
              <a:rPr b="0" lang="en-US" sz="3400" spc="-1" strike="noStrike">
                <a:solidFill>
                  <a:srgbClr val="ebebeb"/>
                </a:solidFill>
                <a:latin typeface="Chalkduster"/>
              </a:rPr>
              <a:t>- Students hold up their book</a:t>
            </a:r>
            <a:br>
              <a:rPr sz="3400"/>
            </a:br>
            <a:r>
              <a:rPr b="0" lang="en-US" sz="3400" spc="-1" strike="noStrike">
                <a:solidFill>
                  <a:srgbClr val="ebebeb"/>
                </a:solidFill>
                <a:latin typeface="Chalkduster"/>
              </a:rPr>
              <a:t>- Student shares their book. </a:t>
            </a:r>
            <a:endParaRPr b="0" lang="en-US" sz="3400" spc="-1" strike="noStrike">
              <a:solidFill>
                <a:srgbClr val="ffffff"/>
              </a:solidFill>
              <a:latin typeface="Chalkduster"/>
            </a:endParaRPr>
          </a:p>
          <a:p>
            <a:pPr marL="406440" indent="-406440">
              <a:spcBef>
                <a:spcPts val="4201"/>
              </a:spcBef>
              <a:buClr>
                <a:srgbClr val="ebebeb"/>
              </a:buClr>
              <a:buSzPct val="75000"/>
              <a:buFont typeface="Chalkdust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Chalkduster"/>
              </a:rPr>
              <a:t> </a:t>
            </a:r>
            <a:r>
              <a:rPr b="0" lang="en-US" sz="3400" spc="-1" strike="noStrike">
                <a:solidFill>
                  <a:srgbClr val="ebebeb"/>
                </a:solidFill>
                <a:latin typeface="Chalkduster"/>
              </a:rPr>
              <a:t>Parts of the Book ID</a:t>
            </a:r>
            <a:endParaRPr b="0" lang="en-US" sz="34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546120"/>
            <a:ext cx="104630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halkduster"/>
              </a:rPr>
              <a:t>Other Line Activities</a:t>
            </a: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1046304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06440" indent="-406440">
              <a:spcBef>
                <a:spcPts val="4201"/>
              </a:spcBef>
              <a:buClr>
                <a:srgbClr val="ebebeb"/>
              </a:buClr>
              <a:buSzPct val="75000"/>
              <a:buFont typeface="Chalkdust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Chalkduster"/>
              </a:rPr>
              <a:t>Give Me Five Song </a:t>
            </a:r>
            <a:endParaRPr b="0" lang="en-US" sz="3400" spc="-1" strike="noStrike">
              <a:solidFill>
                <a:srgbClr val="ffffff"/>
              </a:solidFill>
              <a:latin typeface="Chalkduster"/>
            </a:endParaRPr>
          </a:p>
          <a:p>
            <a:pPr marL="406440" indent="-406440">
              <a:spcBef>
                <a:spcPts val="4201"/>
              </a:spcBef>
              <a:buClr>
                <a:srgbClr val="ebebeb"/>
              </a:buClr>
              <a:buSzPct val="75000"/>
              <a:buFont typeface="Chalkdust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Chalkduster"/>
              </a:rPr>
              <a:t>Simon Says/Look at Me</a:t>
            </a:r>
            <a:endParaRPr b="0" lang="en-US" sz="3400" spc="-1" strike="noStrike">
              <a:solidFill>
                <a:srgbClr val="ffffff"/>
              </a:solidFill>
              <a:latin typeface="Chalkduster"/>
            </a:endParaRPr>
          </a:p>
          <a:p>
            <a:pPr marL="406440" indent="-406440">
              <a:spcBef>
                <a:spcPts val="4201"/>
              </a:spcBef>
              <a:buClr>
                <a:srgbClr val="ebebeb"/>
              </a:buClr>
              <a:buSzPct val="75000"/>
              <a:buFont typeface="Chalkdust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Chalkduster"/>
              </a:rPr>
              <a:t>I-Spy With My Little Eye</a:t>
            </a:r>
            <a:endParaRPr b="0" lang="en-US" sz="3400" spc="-1" strike="noStrike">
              <a:solidFill>
                <a:srgbClr val="ffffff"/>
              </a:solidFill>
              <a:latin typeface="Chalkduster"/>
            </a:endParaRPr>
          </a:p>
          <a:p>
            <a:pPr marL="406440" indent="-406440">
              <a:spcBef>
                <a:spcPts val="4201"/>
              </a:spcBef>
              <a:buClr>
                <a:srgbClr val="ebebeb"/>
              </a:buClr>
              <a:buSzPct val="75000"/>
              <a:buFont typeface="Chalkdust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Chalkduster"/>
              </a:rPr>
              <a:t>Tri-bond</a:t>
            </a:r>
            <a:endParaRPr b="0" lang="en-US" sz="34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TW Teacher</cp:lastModifiedBy>
  <dcterms:modified xsi:type="dcterms:W3CDTF">2014-03-01T16:18:53Z</dcterms:modified>
  <cp:revision>1</cp:revision>
  <dc:subject/>
  <dc:title>Five Minute Activities</dc:title>
</cp:coreProperties>
</file>